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8052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662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516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8240" y="68544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8052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662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1680" y="3789720"/>
            <a:ext cx="274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228240" y="68544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4160" y="378972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520" y="3789720"/>
            <a:ext cx="8534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240" y="624816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80808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7387-81F5-4C8D-8F7C-BC5B49588DE4}" type="slidenum">
              <a:rPr b="1" lang="en-US" sz="2400" spc="-1" strike="noStrike">
                <a:solidFill>
                  <a:srgbClr val="808080"/>
                </a:solidFill>
                <a:latin typeface="Arial Narrow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00800" y="6248520"/>
            <a:ext cx="2362320" cy="532800"/>
            <a:chOff x="6400800" y="6248520"/>
            <a:chExt cx="2362320" cy="532800"/>
          </a:xfrm>
        </p:grpSpPr>
        <p:sp>
          <p:nvSpPr>
            <p:cNvPr id="3" name=""/>
            <p:cNvSpPr/>
            <p:nvPr/>
          </p:nvSpPr>
          <p:spPr>
            <a:xfrm>
              <a:off x="6400800" y="6451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60240" y="6451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519680" y="6451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079120" y="6451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38920" y="6451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400800" y="6658920"/>
              <a:ext cx="124200" cy="1224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96024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51968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07912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38920" y="6658920"/>
              <a:ext cx="124200" cy="122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0080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96024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51968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079120" y="6248520"/>
              <a:ext cx="124200" cy="122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38920" y="6248520"/>
              <a:ext cx="124200" cy="122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228600" y="6172200"/>
            <a:ext cx="86104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7680"/>
          </a:xfrm>
          <a:prstGeom prst="rect">
            <a:avLst/>
          </a:prstGeom>
          <a:ln w="0">
            <a:noFill/>
          </a:ln>
        </p:spPr>
      </p:pic>
      <p:sp>
        <p:nvSpPr>
          <p:cNvPr id="20" name="PlaceHolder 3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 Narrow"/>
              </a:rPr>
              <a:t>Click to edit the title text format</a:t>
            </a:r>
            <a:endParaRPr b="1" lang="en-US" sz="3800" spc="-1" strike="noStrike">
              <a:solidFill>
                <a:srgbClr val="808080"/>
              </a:solidFill>
              <a:latin typeface="Arial Narrow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7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14400" y="1109520"/>
            <a:ext cx="3519720" cy="10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338120"/>
            <a:ext cx="2895480" cy="10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81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181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Narrow"/>
              </a:rPr>
              <a:t>Second Outline Level</a:t>
            </a:r>
            <a:endParaRPr b="0" i="1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8080"/>
                </a:solidFill>
                <a:latin typeface="Arial Narrow"/>
              </a:rPr>
              <a:t>Third Outline Level</a:t>
            </a:r>
            <a:endParaRPr b="1" i="1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Four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4" marL="1828800" algn="ctr"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Fif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ix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eventh Outline Level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nfo@acm-consulting.com" TargetMode="External"/><Relationship Id="rId2" Type="http://schemas.openxmlformats.org/officeDocument/2006/relationships/hyperlink" Target="http://www.admarplus.ru/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08080"/>
                </a:solidFill>
                <a:latin typeface="Arial Narrow"/>
              </a:rPr>
              <a:t>Новые бизнес модели использования </a:t>
            </a:r>
            <a:r>
              <a:rPr b="1" lang="en-US" sz="3400" spc="-1" strike="noStrike">
                <a:solidFill>
                  <a:srgbClr val="808080"/>
                </a:solidFill>
                <a:latin typeface="Arial Narrow"/>
              </a:rPr>
              <a:t>VAS</a:t>
            </a:r>
            <a:r>
              <a:rPr b="1" lang="el-GR" sz="34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1" lang="ru-RU" sz="3400" spc="-1" strike="noStrike">
                <a:solidFill>
                  <a:srgbClr val="808080"/>
                </a:solidFill>
                <a:latin typeface="Arial Narrow"/>
              </a:rPr>
              <a:t>в интерактивных проектах на ТВ</a:t>
            </a:r>
            <a:endParaRPr b="1" lang="en-US" sz="34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124080" y="4876560"/>
            <a:ext cx="4191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81"/>
                </a:solidFill>
                <a:latin typeface="Arial Narrow"/>
              </a:rPr>
              <a:t>Алексей Чуйкин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 Narrow"/>
              </a:rPr>
              <a:t>Исполнительный директор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 Narrow"/>
              </a:rPr>
              <a:t>Эдмар+</a:t>
            </a:r>
            <a:r>
              <a:rPr b="1" lang="ru-RU" sz="2400" spc="-1" strike="noStrike">
                <a:solidFill>
                  <a:srgbClr val="ff8181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ff8181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3962520"/>
            <a:ext cx="5943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Примеры интерактивных проектов на ТВ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Голод (ТНТ)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Голосование (еженедельное выбывание участник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Обратная связь (поддержка зрительской аудитории в адрес участников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Чат (общение поклонников реалити шоу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За 3 месяца – более 600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</a:t>
            </a:r>
            <a:r>
              <a:rPr b="0" i="1" lang="el-GR" sz="1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(около 7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в день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Фабрика Звезд 5 (1 канал, </a:t>
            </a:r>
            <a:r>
              <a:rPr b="0" lang="en-US" sz="1800" spc="-1" strike="noStrike">
                <a:solidFill>
                  <a:srgbClr val="808080"/>
                </a:solidFill>
                <a:latin typeface="Arial Narrow"/>
              </a:rPr>
              <a:t>MTV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Голосование (за участников проект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Голосование (за спасение участника проект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фабриканту (личное послание участнику проекта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Картинки и мелодии (рингтоны песен участников и их фото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За 1 месяц - более 360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</a:t>
            </a:r>
            <a:r>
              <a:rPr b="0" i="1" lang="el-GR" sz="1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(около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1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2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в день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Пан или пропал (1 канал)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Рассчитать выигрыш участника передачи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За 1 месяц – более 240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(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около 8 000 </a:t>
            </a:r>
            <a:r>
              <a:rPr b="0" i="1" lang="en-US" sz="1600" spc="-1" strike="noStrike">
                <a:solidFill>
                  <a:srgbClr val="808080"/>
                </a:solidFill>
                <a:latin typeface="Arial Narrow"/>
              </a:rPr>
              <a:t>SMS </a:t>
            </a:r>
            <a:r>
              <a:rPr b="0" i="1" lang="ru-RU" sz="1600" spc="-1" strike="noStrike">
                <a:solidFill>
                  <a:srgbClr val="808080"/>
                </a:solidFill>
                <a:latin typeface="Arial Narrow"/>
              </a:rPr>
              <a:t>в день)</a:t>
            </a:r>
            <a:endParaRPr b="0" i="1" lang="en-US" sz="16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7920" y="5299920"/>
            <a:ext cx="9136080" cy="707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четание описанных факторов позволили контент-провайдерам этих проектов сделать их успешны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 тех же компаний есть и негативный 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BFD58-B9F3-45F5-A886-B4C3BE3E9DB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Факторы успех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" y="1450800"/>
            <a:ext cx="8640720" cy="8240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Успешными становятся те проекты, в которых правильно сочетаются три четких компонента (формат программы, идея интерактива/технология реализации сервиса, и их соответствие аудитории медиаканала) и один нечеткий - креати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20" y="5455800"/>
            <a:ext cx="9136080" cy="642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роме того, необходимо учитывать внешние факторы (контрпрограммирование, наличие естественных раздражителей, сезонные колебания интереса и т.д.). Успех приходит далеко не ко всем проекта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2895480" cy="2583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52680" y="2743200"/>
            <a:ext cx="2743200" cy="838080"/>
          </a:xfrm>
          <a:custGeom>
            <a:avLst/>
            <a:gdLst/>
            <a:ahLst/>
            <a:rect l="l" t="t" r="r" b="b"/>
            <a:pathLst>
              <a:path w="1728" h="528">
                <a:moveTo>
                  <a:pt x="1728" y="528"/>
                </a:moveTo>
                <a:lnTo>
                  <a:pt x="864" y="528"/>
                </a:lnTo>
                <a:lnTo>
                  <a:pt x="86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160" y="2590920"/>
            <a:ext cx="31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Медиа канал и используемый тайм-сл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должны соответствовать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целевой аудитории интерактивн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29000" y="3733920"/>
            <a:ext cx="2819520" cy="14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429000"/>
            <a:ext cx="342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Формат программы </a:t>
            </a: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должен бы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привлекателен именно для 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аудитории, которая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наиболее активно участвует в интерактивных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 Narrow"/>
              </a:rPr>
              <a:t>проек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733920"/>
            <a:ext cx="3200400" cy="1523880"/>
          </a:xfrm>
          <a:custGeom>
            <a:avLst/>
            <a:gdLst/>
            <a:ahLst/>
            <a:rect l="l" t="t" r="r" b="b"/>
            <a:pathLst>
              <a:path w="1824" h="960">
                <a:moveTo>
                  <a:pt x="1824" y="0"/>
                </a:moveTo>
                <a:lnTo>
                  <a:pt x="1824" y="960"/>
                </a:lnTo>
                <a:lnTo>
                  <a:pt x="0" y="96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2320" y="4648320"/>
            <a:ext cx="322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 Narrow"/>
              </a:rPr>
              <a:t>Формат проекта и технология (</a:t>
            </a: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SMS, IV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Arial Narrow"/>
              </a:rPr>
              <a:t>должны соответствовать профилю целевой </a:t>
            </a:r>
            <a:br>
              <a:rPr sz="1400"/>
            </a:br>
            <a:r>
              <a:rPr b="0" lang="ru-RU" sz="1400" spc="-1" strike="noStrike">
                <a:solidFill>
                  <a:srgbClr val="808080"/>
                </a:solidFill>
                <a:latin typeface="Arial Narrow"/>
              </a:rPr>
              <a:t>аудитории пере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A8B03-2973-4128-9904-9138BDD2585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09960" cy="31208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Факторы успех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На получаемый результат также влияет удобство алгоритма, качество и вид программного анонсирования, межэфирное промо, и множество других фак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53200" y="50292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Три анонсирования за перед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44120" y="50292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3300"/>
                </a:solidFill>
                <a:latin typeface="Arial Narrow"/>
              </a:rPr>
              <a:t>Пять анонсирований за перед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81480" y="2514600"/>
            <a:ext cx="0" cy="281952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3276720"/>
            <a:ext cx="2057400" cy="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34120" y="3580920"/>
            <a:ext cx="1676160" cy="3049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2743200"/>
            <a:ext cx="1905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Изменение трафика </a:t>
            </a:r>
            <a:br>
              <a:rPr sz="1400"/>
            </a:b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почти в два раза за неделю невозможно объяснить рациона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581280"/>
            <a:ext cx="1295640" cy="762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6668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 Narrow"/>
              </a:rPr>
              <a:t>Скорость «раскрутки» зависти от качества ано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20" y="548640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Чтобы достичь успеха, нужно реализовывать профессиональный подход – цена ошибки на ТВ на порядки выше цены ошибки при продвижении через другие меди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7EDA9-EACE-4BAB-A449-7B54227CCE0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Роль Агентств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Агентство выступает в качестве профессионального посредника между каналами, производителями, владельцами формата и участниками рынка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VAS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 (само в том числе им являясь)</a:t>
            </a:r>
            <a:r>
              <a:rPr b="1" lang="el-GR" sz="1600" spc="-1" strike="noStrike">
                <a:solidFill>
                  <a:srgbClr val="808080"/>
                </a:solidFill>
                <a:latin typeface="Arial Narrow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920" y="51523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езультат работы Агенства – Оракул Интерактивных Проектов – модель прогнозирования и анализа, построенная на основе ежедневной работы Агенства и его партнеров, позволяющая минимизировать риск неудачных проектов и максимизировать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09920" y="2519280"/>
            <a:ext cx="2016000" cy="2133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12960" y="2658960"/>
            <a:ext cx="990720" cy="617760"/>
          </a:xfrm>
          <a:prstGeom prst="rightArrow">
            <a:avLst>
              <a:gd name="adj1" fmla="val 50000"/>
              <a:gd name="adj2" fmla="val 4009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12960" y="3344760"/>
            <a:ext cx="990720" cy="617760"/>
          </a:xfrm>
          <a:prstGeom prst="rightArrow">
            <a:avLst>
              <a:gd name="adj1" fmla="val 50000"/>
              <a:gd name="adj2" fmla="val 4009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12960" y="4030560"/>
            <a:ext cx="990720" cy="617760"/>
          </a:xfrm>
          <a:prstGeom prst="rightArrow">
            <a:avLst>
              <a:gd name="adj1" fmla="val 50000"/>
              <a:gd name="adj2" fmla="val 40093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87880" y="2590920"/>
            <a:ext cx="990720" cy="617400"/>
          </a:xfrm>
          <a:prstGeom prst="rightArrow">
            <a:avLst>
              <a:gd name="adj1" fmla="val 50000"/>
              <a:gd name="adj2" fmla="val 40117"/>
            </a:avLst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87880" y="3276720"/>
            <a:ext cx="990720" cy="617400"/>
          </a:xfrm>
          <a:prstGeom prst="rightArrow">
            <a:avLst>
              <a:gd name="adj1" fmla="val 50000"/>
              <a:gd name="adj2" fmla="val 40117"/>
            </a:avLst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87880" y="3962520"/>
            <a:ext cx="990720" cy="617400"/>
          </a:xfrm>
          <a:prstGeom prst="rightArrow">
            <a:avLst>
              <a:gd name="adj1" fmla="val 50000"/>
              <a:gd name="adj2" fmla="val 40117"/>
            </a:avLst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728800"/>
            <a:ext cx="159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Форма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0200" y="342900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Технические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 парамет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1640" y="410040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Внешние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факт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93880" y="2606760"/>
            <a:ext cx="113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Форм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интеракт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240" y="343044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3300"/>
                </a:solidFill>
                <a:latin typeface="Arial Narrow"/>
              </a:rPr>
              <a:t>При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221600" y="4032360"/>
            <a:ext cx="146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Способ и обьем</a:t>
            </a:r>
            <a:br>
              <a:rPr sz="1400"/>
            </a:br>
            <a:r>
              <a:rPr b="0" i="1" lang="ru-RU" sz="1400" spc="-1" strike="noStrike">
                <a:solidFill>
                  <a:srgbClr val="cc3300"/>
                </a:solidFill>
                <a:latin typeface="Arial Narrow"/>
              </a:rPr>
              <a:t>ано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F0073-3090-4708-AE9F-88DDA4B59AE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74840" y="2033640"/>
            <a:ext cx="70952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Эдмар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Агентство Интерактивного Телевизионного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115114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Летниковская ул.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Офис 2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Arial Narrow"/>
              </a:rPr>
              <a:t>Тел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: </a:t>
            </a:r>
            <a:r>
              <a:rPr b="1" lang="ru-RU" sz="2400" spc="-1" strike="noStrike">
                <a:solidFill>
                  <a:srgbClr val="cc0000"/>
                </a:solidFill>
                <a:latin typeface="Arial Narrow"/>
              </a:rPr>
              <a:t>+7 095 926-7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E-mail: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 Narrow"/>
                <a:hlinkClick r:id="rId1"/>
              </a:rPr>
              <a:t>info@admarplus.ru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Internet: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 Narrow"/>
                <a:hlinkClick r:id="rId2"/>
              </a:rPr>
              <a:t>www.admarplus.ru</a:t>
            </a:r>
            <a:r>
              <a:rPr b="0" lang="en-US" sz="20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Как нас найти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4A8CC-46D7-43B8-9EE2-292808D9A3B9}" type="datetime3">
              <a:rPr lang="en-US"/>
              <a:t>July 28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Содержание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120" y="1928520"/>
            <a:ext cx="61722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Динамика расширения абонентской аудитории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VAS </a:t>
            </a: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на российском рынке мобильной связи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 Narrow"/>
              </a:rPr>
              <a:t>Mobile Content Based Services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Контент и интерактив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Бизнес модели для интерактива на ТВ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Основные факторы успеха интерактивных проектов на ТВ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80"/>
                </a:solidFill>
                <a:latin typeface="Arial Narrow"/>
              </a:rPr>
              <a:t>Агентство – интерфейс между медиа каналами и создателями интерактивных приложений </a:t>
            </a: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FF9A5-8A58-42DF-B82C-1A6CE8203C24}" type="datetime3">
              <a:rPr lang="en-US"/>
              <a:t>July 28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Аудитория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289080" y="1450800"/>
            <a:ext cx="8640720" cy="8240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Последние 3 года были периодом беспрецедентного роста абонентской базы сотовых сетей. На 31.10.2004 в России было 62 миллиона абонентов, а к концу года их ожидается не менее 70 миллионов.  По существу, сформировалась новая аудитория потреб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20" y="543888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К концу года каждый второй россиянин станет обладателем сотового телефона, а в крупнейших      городах - Москве и Санкт-Петербурге охват составит около 90% и 80%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114800" cy="2540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1066680" y="2895480"/>
            <a:ext cx="2743200" cy="137160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782000">
            <a:off x="1365480" y="320004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585"/>
                </a:solidFill>
                <a:latin typeface="Arial"/>
              </a:rPr>
              <a:t>CAGR 1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6920" y="24620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Прирост абон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886200" cy="2398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540120" y="24811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Охв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720" y="51814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728F5-CD55-4ECF-A0F3-A28110FAB3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Неголосовые услуги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Главная тенденция современного рынка – интенсивный рост выручки от неголосовых услуг (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VAS) 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: передачи данных,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SMS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MMS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,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IVR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-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based </a:t>
            </a: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игр и развлечений, информацион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20" y="52711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Доля сегмента контентных и интерактивных услуг в структуре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S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астет значительно быстрее, чем любого другого сегмента (например, мобильного Интернета). В 2006 г. выручка от предоставления подобных услуг составит около 50% о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59560" y="214164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Объем рынка </a:t>
            </a: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VAS </a:t>
            </a: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47840" y="2141640"/>
            <a:ext cx="38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Доля контентных/интерактивных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038480" cy="249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0" y="2554200"/>
            <a:ext cx="4191120" cy="2587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5410080" y="3504960"/>
            <a:ext cx="2895840" cy="6094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20" y="502920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83C98-0737-475B-917A-9AAF1AFD116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Технологии 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289080" y="13716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Пока подавляющая часть аудитории использует самые примитивные возможности мобильного терминала для потребления простейших услуг.  Потенциал рынка еще далеко не раскры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20" y="52711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Три четверти абонентов знакомы с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. Пока по интенсивности использования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российский рынок  отстает от более развитых, однако рост трафика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</a:t>
            </a:r>
            <a:r>
              <a:rPr b="1" lang="el-G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оставляе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155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% в год, а доходы о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MS</a:t>
            </a:r>
            <a:r>
              <a:rPr b="1" lang="el-G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же в текущем году превысят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S$ 430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мл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60680" y="20480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Популярность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4343400" cy="2681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488920" y="2081160"/>
            <a:ext cx="29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Интенсивность </a:t>
            </a: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SMS</a:t>
            </a:r>
            <a:r>
              <a:rPr b="1" lang="el-GR" sz="1800" spc="-1" strike="noStrike">
                <a:solidFill>
                  <a:srgbClr val="ff8585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т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343400" cy="2679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720" y="502920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8793B-44D9-4E97-B59C-61FB3F5B6F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 Narrow"/>
              </a:rPr>
              <a:t>Контент и интерактив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144792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Основная масса доходов в этом сегменте - продажа мелодий и картинок, но на интерактивные медиа-проекты  уже приходится порядка 20% доходов и 50% трафика </a:t>
            </a:r>
            <a:r>
              <a:rPr b="1" lang="en-US" sz="1600" spc="-1" strike="noStrike">
                <a:solidFill>
                  <a:srgbClr val="808080"/>
                </a:solidFill>
                <a:latin typeface="Arial Narrow"/>
              </a:rPr>
              <a:t>premium S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0" y="5393520"/>
            <a:ext cx="9136080" cy="824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Интерактив в медиа-проектах – самый динамично развивающийся суб-сегмент. При этом, по сравнению с контентным сегментом, его объем практически не ограничен – это вопрос формата медиа-канала, креатива и «сходимости кейс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5240" y="21574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Структура конт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66640" y="215748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Доли типов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18871" t="4290" r="18785" b="11965"/>
          <a:stretch/>
        </p:blipFill>
        <p:spPr>
          <a:xfrm>
            <a:off x="533520" y="2362320"/>
            <a:ext cx="3657600" cy="303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343400" y="2666880"/>
            <a:ext cx="4267080" cy="263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720" y="51814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250B4-99EA-4F82-AC0C-4D0652565A6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Проникновение интерактива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89080" y="146700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По существу,  по доле интерактива можно судить о степени развития и зрелости каждого отдельного географического рынк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0" y="551484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Если в Москве и Санкт-Петербурге доля интерактива уже заметна, то региональные рынки еще не «проснулись». В Западной Европе интерактив уже обеспечивает подавляющую долю выручк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8720" y="210168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Структура доходов от контент услуг</a:t>
            </a:r>
            <a:br>
              <a:rPr sz="1800"/>
            </a:br>
            <a:r>
              <a:rPr b="1" lang="en-US" sz="1800" spc="-1" strike="noStrike">
                <a:solidFill>
                  <a:srgbClr val="ff8585"/>
                </a:solidFill>
                <a:latin typeface="Arial Narrow"/>
              </a:rPr>
              <a:t> российских операторо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4191120" cy="2585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25432" t="10941" r="19603" b="15953"/>
          <a:stretch/>
        </p:blipFill>
        <p:spPr>
          <a:xfrm>
            <a:off x="5562720" y="2895480"/>
            <a:ext cx="2895480" cy="2378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019480" y="2101680"/>
            <a:ext cx="35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Структура доходов от контент услуг</a:t>
            </a:r>
            <a:br>
              <a:rPr sz="1800"/>
            </a:br>
            <a:r>
              <a:rPr b="1" lang="ru-RU" sz="1800" spc="-1" strike="noStrike">
                <a:solidFill>
                  <a:srgbClr val="ff8585"/>
                </a:solidFill>
                <a:latin typeface="Arial Narrow"/>
              </a:rPr>
              <a:t> в Зап. Европе и Великобрит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77040" y="5318280"/>
            <a:ext cx="15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По данным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M-Consul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AE261-B1BD-463B-8389-25C53FCCDAF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Реализация интерактива на ТВ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Во-первых,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в подобных проектах участвует большое количество сторон: ТВ каналы, правообладатели формата, продюсеры, производители, спонсоры, правообладатели мелодий, операторы, контент-провайдеры, рекламные агентства. Возникает проблема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синтеза знаний, координации действий, прописания контрактных отношений, обеспечения баланса интересов.</a:t>
            </a: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Во-вторых,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для  основных ТВ каналов доходы от интерактивных проектов пока не столь существенны, а затраты бывают существенными. В связи с этим, они крайне неохотно занимаются таким проектами на условиях разделения доходов. Для начала проекта их необходимо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заинтересовать и убедительно доказать жизнеспособность и экономическую целесообразность проекта</a:t>
            </a:r>
            <a:r>
              <a:rPr b="0" lang="ru-RU" sz="1800" spc="-1" strike="noStrike" u="sng">
                <a:solidFill>
                  <a:srgbClr val="808080"/>
                </a:solidFill>
                <a:uFillTx/>
                <a:latin typeface="Arial Narrow"/>
              </a:rPr>
              <a:t>.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В-третьих,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сама реализация</a:t>
            </a:r>
            <a:r>
              <a:rPr b="1" lang="ru-RU" sz="18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808080"/>
                </a:solidFill>
                <a:latin typeface="Arial Narrow"/>
              </a:rPr>
              <a:t>проектов на ТВ связана с большим риском – процесс продвижения услуги сжат во времени до продолжительности передачи. Любая ошибка с позиционированием, выбором технологии, формата, содержания и других аспектов приводит к провалу проекта.  С учетом стоимости эфира трансляции и межпрограммного продвижения, это </a:t>
            </a:r>
            <a:r>
              <a:rPr b="0" lang="ru-RU" sz="1800" spc="-1" strike="noStrike" u="sng">
                <a:solidFill>
                  <a:srgbClr val="cc0000"/>
                </a:solidFill>
                <a:uFillTx/>
                <a:latin typeface="Arial Narrow"/>
              </a:rPr>
              <a:t>большие финансовые риски - как для канала, так и для контент-провайдера.</a:t>
            </a:r>
            <a:endParaRPr b="0" lang="en-US" sz="18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289080" y="1523880"/>
            <a:ext cx="8640720" cy="580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Оказывается, что реализация интерактивных проектов на ТВ связана с большими сложностями и потенциальными финансовыми и репутационными рис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F9396-7C53-4F0B-BD28-EADB63CB996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80"/>
                </a:solidFill>
                <a:latin typeface="Arial Narrow"/>
              </a:rPr>
              <a:t>Бизнес-модели</a:t>
            </a:r>
            <a:endParaRPr b="1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289080" y="1371600"/>
            <a:ext cx="8640720" cy="8240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Narrow"/>
              </a:rPr>
              <a:t>Для того, чтобы реализовать массово популярный и коммерчески успешный проект, требуется поистине высокая креативность, глубокое знание аудитории медиаканала и мастерское владение технологиями медиапланирования. Набор бизнес моделей в этом сегменте крайне огранич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20" y="5362560"/>
            <a:ext cx="9136080" cy="580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 учетом особенностей Российского законодательства приходится крайне осторожно выбирать конкретный алгоритм интерактивного серви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76720" y="2514600"/>
            <a:ext cx="26668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58128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ГОЛОС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514600"/>
            <a:ext cx="2590920" cy="762120"/>
          </a:xfrm>
          <a:prstGeom prst="rect">
            <a:avLst/>
          </a:prstGeom>
          <a:solidFill>
            <a:srgbClr val="ff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ТИМУЛИРУЮЩА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ЛОТЕР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581280"/>
            <a:ext cx="2590920" cy="762120"/>
          </a:xfrm>
          <a:prstGeom prst="rect">
            <a:avLst/>
          </a:prstGeom>
          <a:solidFill>
            <a:srgbClr val="ff81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АЗАРТН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4495680"/>
            <a:ext cx="16765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РАЗВ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495680"/>
            <a:ext cx="106704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495680"/>
            <a:ext cx="10666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4495680"/>
            <a:ext cx="167616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РЕАЛИТИ Ш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514600"/>
            <a:ext cx="25909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ОБРАТНАЯ СВЯЗ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581280"/>
            <a:ext cx="266688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ВИКТО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4495680"/>
            <a:ext cx="19051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374FC-006F-4652-82FD-DE159456D62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0:34:35Z</dcterms:created>
  <dc:creator/>
  <dc:description/>
  <dc:language>en-US</dc:language>
  <cp:lastModifiedBy>chuikin</cp:lastModifiedBy>
  <dcterms:modified xsi:type="dcterms:W3CDTF">2004-12-09T08:32:37Z</dcterms:modified>
  <cp:revision>577</cp:revision>
  <dc:subject/>
  <dc:title>Overview of CIS and Baltics Wireless Marke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8085461</vt:r8>
  </property>
  <property fmtid="{D5CDD505-2E9C-101B-9397-08002B2CF9AE}" pid="3" name="_AuthorEmail">
    <vt:lpwstr>alexei.chuikin@plasticmedia.ru</vt:lpwstr>
  </property>
  <property fmtid="{D5CDD505-2E9C-101B-9397-08002B2CF9AE}" pid="4" name="_AuthorEmailDisplayName">
    <vt:lpwstr>alexei.chuikin</vt:lpwstr>
  </property>
  <property fmtid="{D5CDD505-2E9C-101B-9397-08002B2CF9AE}" pid="5" name="_EmailSubject">
    <vt:lpwstr>VAS Forum Pres - 021204.ppt</vt:lpwstr>
  </property>
  <property fmtid="{D5CDD505-2E9C-101B-9397-08002B2CF9AE}" pid="6" name="_PreviousAdHocReviewCycleID">
    <vt:r8>-1026320274</vt:r8>
  </property>
</Properties>
</file>