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0.png" ContentType="image/png"/>
  <Override PartName="/ppt/media/image6.png" ContentType="image/png"/>
  <Override PartName="/ppt/media/image29.png" ContentType="image/png"/>
  <Override PartName="/ppt/media/image36.gif" ContentType="image/gif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863-214F-42F5-87CD-8E3D74FE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734-AB5A-4DCA-BAC7-95FBD776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9B4-0A15-4BFF-BD2B-B11DEA85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87D-0C16-4159-86FE-B79E4874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047-6293-48B5-9C33-6B488478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712-BD34-426A-B84D-128E09A7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8DC-DF8A-4D24-BAE9-9799406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761-7259-4AE3-884B-6E0CD36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2B5-63EC-4DF5-A011-7492B625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273-CCB8-4BB3-B760-D9BD6995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654-26F2-4480-9944-C7C113BD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035-082B-4F5D-BC02-5CBE5DD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5A12-CC95-4D34-85E2-7D2AEBB3E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38080" y="3292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5.png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3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Персонализация и современные технологии в дополнительных услугах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сотовых опер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2760" y="2900520"/>
            <a:ext cx="296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ООО «Инфо Софт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тел.:  +7 (812) 324 87 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факс: +7 (812) 324 88 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contact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@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info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soft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www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info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soft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ru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582560" y="1857240"/>
            <a:ext cx="1830600" cy="2265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45640" y="4616280"/>
            <a:ext cx="32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Генеральный дире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Чередин Валерий Никола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9B9-535F-4D7A-BEE5-F61007D5C67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827360" y="846000"/>
            <a:ext cx="3076560" cy="5257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5172120" y="1574640"/>
            <a:ext cx="2362320" cy="3800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165400" y="826920"/>
            <a:ext cx="3076560" cy="5257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5199120" y="1506600"/>
            <a:ext cx="2314440" cy="3971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1622520" y="757080"/>
            <a:ext cx="6581520" cy="974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Использование новых технологий должно облегчать доступ к услуге или создавать новые дополнительные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7CF-F2CE-4196-A2A4-9E08A111B963}" type="slidenum">
              <a:t>10</a:t>
            </a:fld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82440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Задачи предоставления 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LBS </a:t>
            </a: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 услуги 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“</a:t>
            </a: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Локатор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”</a:t>
            </a:r>
            <a:r>
              <a:rPr b="1" lang="ru-RU" sz="1800" spc="-1" strike="noStrike">
                <a:solidFill>
                  <a:srgbClr val="303090"/>
                </a:solidFill>
                <a:latin typeface="Verdana"/>
              </a:rPr>
              <a:t> всем абонентам целевой группы и стимулирование использования новых технологий решены двумя интерфейсами</a:t>
            </a: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 rot="21109800">
            <a:off x="5438880" y="2356920"/>
            <a:ext cx="2571480" cy="3457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 rot="21280800">
            <a:off x="1491840" y="2338560"/>
            <a:ext cx="2571840" cy="3457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35600" y="1533600"/>
            <a:ext cx="220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SMS </a:t>
            </a: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интерфей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JAVA </a:t>
            </a: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при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F26-9FF9-4CC2-A6A5-4867B138E78B}" type="slidenum">
              <a:t>11</a:t>
            </a:fld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560" y="282600"/>
            <a:ext cx="6657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Location Based Services</a:t>
            </a: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303090"/>
                </a:solidFill>
                <a:latin typeface="Verdana"/>
              </a:rPr>
              <a:t>LBS</a:t>
            </a: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Локально зависимые услуги – отдельный, специфический вид дополнительных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1608120" y="1649520"/>
            <a:ext cx="4943520" cy="39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948-495B-4E6A-B401-CA18860E539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Определение местоположения абонента позволяет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800600" y="1300320"/>
            <a:ext cx="3672000" cy="4809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85680" y="692280"/>
            <a:ext cx="745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Создавать новые, уникальны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Развивать существующ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3400" y="1465200"/>
            <a:ext cx="397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Определение местоположения абонента – дополнительный  метод персонализации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1952640" y="2536920"/>
            <a:ext cx="2571840" cy="34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83C-8660-4CA2-B752-B40DC56A3696}" type="slidenum">
              <a:t>13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4     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241200"/>
            <a:ext cx="324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763640" y="1512720"/>
            <a:ext cx="2667240" cy="1124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765440" y="3247920"/>
            <a:ext cx="2666880" cy="1190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1763640" y="4851360"/>
            <a:ext cx="3019320" cy="1257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4902120" y="2460600"/>
            <a:ext cx="2867040" cy="1190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041480" y="358920"/>
            <a:ext cx="765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Удобная навигация в большом количестве дополнительных услуг, персонализация и адекватное применение современных технологий - необходимые условия успешности развития 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VAS</a:t>
            </a:r>
            <a:r>
              <a:rPr b="0" lang="ru-RU" sz="1000" spc="-1" strike="noStrike">
                <a:solidFill>
                  <a:srgbClr val="303090"/>
                </a:solidFill>
                <a:latin typeface="Verdana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4902120" y="1368360"/>
            <a:ext cx="2867040" cy="1123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5454720" y="4940280"/>
            <a:ext cx="2419200" cy="1190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5438880" y="3745080"/>
            <a:ext cx="2419200" cy="119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933-9CBA-49CF-8892-57D3DF1C704C}" type="slidenum">
              <a:t>14</a:t>
            </a:fld>
          </a:p>
        </p:txBody>
      </p:sp>
    </p:spTree>
  </p:cSld>
  <p:transition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       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241200"/>
            <a:ext cx="324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3090"/>
                </a:solidFill>
                <a:latin typeface="Verdana"/>
              </a:rPr>
              <a:t>ООО «Инфо Соф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763640" y="2043000"/>
            <a:ext cx="266724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65440" y="3166920"/>
            <a:ext cx="2666880" cy="1190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1763640" y="4348080"/>
            <a:ext cx="3019320" cy="125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902120" y="3157560"/>
            <a:ext cx="2867040" cy="1190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1480" y="833400"/>
            <a:ext cx="769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Предоставление дополнительных услуг в сетях сотовых опера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Разработка программного обеспечения дополнительных услуг</a:t>
            </a:r>
            <a:r>
              <a:rPr b="0" lang="en-US" sz="1000" spc="-1" strike="noStrike">
                <a:solidFill>
                  <a:srgbClr val="30309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902120" y="2023920"/>
            <a:ext cx="2867040" cy="1123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5445000" y="4398840"/>
            <a:ext cx="2419560" cy="11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241-C819-415F-8D0D-EDB921E919E3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8160" y="100080"/>
            <a:ext cx="78264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2440" indent="2880"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Задачи, встающие в связи с развитием и ростом количества дополнительных услуг, перед сервис провайдерами и операторами сотовой связи</a:t>
            </a: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659560" y="3395520"/>
            <a:ext cx="2593800" cy="252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420920" y="3184560"/>
            <a:ext cx="2006640" cy="2643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429000" y="3127320"/>
            <a:ext cx="2278080" cy="221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9920" y="1209600"/>
            <a:ext cx="7321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Донести информацию о существовании услуг в удобной для    пользователя фор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Предоставить возможность сгруппировать некоторые наборы услуг, интересующие заданные целевые группы абонентов.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Организовать удобный доступ абонентов к выбранной группе услуг и к каждой услуге в отд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81B-1497-480C-B9AB-EAD2AFEFD8C8}" type="slidenum">
              <a:t>3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1200" spc="-1" strike="noStrike">
                <a:solidFill>
                  <a:srgbClr val="303090"/>
                </a:solidFill>
                <a:latin typeface="Verdana"/>
              </a:rPr>
              <a:t>         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16000"/>
            <a:ext cx="32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333360"/>
            <a:ext cx="828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804960" y="1089000"/>
            <a:ext cx="3709800" cy="380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291280" y="1077840"/>
            <a:ext cx="3458880" cy="3597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335480" y="4365720"/>
            <a:ext cx="173520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390-C75A-4AEF-9974-E3D8201C50B3}" type="slidenum">
              <a:t>4</a:t>
            </a:fld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3400" y="420840"/>
            <a:ext cx="778680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Информация о дополнительных услугах должна быть доступна с мобильного телеф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568680" y="1771560"/>
            <a:ext cx="2457360" cy="3305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934920" y="1736640"/>
            <a:ext cx="2460600" cy="3308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319800" y="1835280"/>
            <a:ext cx="2452680" cy="329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263-1F22-4768-BBBA-E6091389C815}" type="slidenum">
              <a:t>5</a:t>
            </a:fld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487520" y="353880"/>
            <a:ext cx="142092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00000" y="2165400"/>
            <a:ext cx="1971720" cy="1922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528920" y="4189320"/>
            <a:ext cx="1990440" cy="1882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66840" y="636480"/>
            <a:ext cx="206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Бизнесме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0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Курс вал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Котировки а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Новости эконом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88160" y="3597120"/>
            <a:ext cx="171288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5162400" y="1828800"/>
            <a:ext cx="3981600" cy="4257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177000" y="2389320"/>
            <a:ext cx="2256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Болельщи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Зенит чемпи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Формула </a:t>
            </a: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Чемпионат по хоккею</a:t>
            </a:r>
            <a:r>
              <a:rPr b="0" lang="ru-RU" sz="1200" spc="-1" strike="noStrike">
                <a:solidFill>
                  <a:srgbClr val="30309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9760" y="4575240"/>
            <a:ext cx="1675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90"/>
                </a:solidFill>
                <a:latin typeface="Verdana"/>
              </a:rPr>
              <a:t>Домохозяй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Анекд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Гороск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0309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Дет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C4F-51FD-4E40-93C3-E9EE934DB970}" type="slidenum">
              <a:t>6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6640" y="11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0"/>
                </a:solidFill>
                <a:latin typeface="Verdana"/>
              </a:rPr>
              <a:t>Персонализированные порталы позволяют ненавязчиво информировать пользователя о появлении нов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739880" y="2367000"/>
            <a:ext cx="1952640" cy="257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4518000" y="1736640"/>
            <a:ext cx="2571840" cy="34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178-4644-445A-9DC3-103BCCDE1BB4}" type="slidenum">
              <a:t>7</a:t>
            </a:fld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763800" y="666720"/>
            <a:ext cx="5099040" cy="545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8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 Персонализация и современные технологии в дополнительных услуг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24920"/>
            <a:ext cx="72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3090"/>
                </a:solidFill>
                <a:latin typeface="Verdana"/>
              </a:rPr>
              <a:t>Навигация и персонализация требуется не только на уровне услуг, но и внутри самих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8920" y="539640"/>
            <a:ext cx="72136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Предоставление удобного пользовательского интерфейса всем абонентам  целево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0309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03090"/>
                </a:solidFill>
                <a:latin typeface="Verdana"/>
              </a:rPr>
              <a:t>Развитие и персонализация дополнительных услуг с использованием новых техно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3D1-7D66-47C7-A282-70CE154D806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076400" y="5805360"/>
          <a:ext cx="70959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5805360"/>
                    <a:ext cx="70959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0" y="549360"/>
          <a:ext cx="87624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876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115920"/>
            <a:ext cx="9144000" cy="2174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4c9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303090"/>
                </a:solidFill>
                <a:latin typeface="Verdana"/>
              </a:rPr>
              <a:t>           Персонализация и современные технологии в дополнительных услугах сотовых опер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0"/>
            <a:ext cx="111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33360"/>
            <a:ext cx="11160" cy="431640"/>
          </a:xfrm>
          <a:prstGeom prst="rect">
            <a:avLst/>
          </a:prstGeom>
          <a:solidFill>
            <a:srgbClr val="303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27400" y="1608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565360" y="3562200"/>
            <a:ext cx="1830600" cy="2462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846840" y="3454560"/>
            <a:ext cx="1843200" cy="2477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811080" y="1389240"/>
            <a:ext cx="2059200" cy="27684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Задача удобного пользовательского интерфейса решается адекватным использованием технологий. </a:t>
            </a:r>
            <a:br>
              <a:rPr sz="1800"/>
            </a:br>
            <a:r>
              <a:rPr b="1" lang="en-US" sz="1800" spc="-1" strike="noStrike">
                <a:solidFill>
                  <a:srgbClr val="303090"/>
                </a:solidFill>
                <a:latin typeface="Verdana"/>
              </a:rPr>
              <a:t>Абоненту не важны технологии, ему необходимо удоб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4386240" y="1306440"/>
            <a:ext cx="2792520" cy="300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124400">
            <a:off x="7289280" y="4522680"/>
            <a:ext cx="63828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116-FE70-4F31-B847-2ED334F2B20C}" type="slidenum">
              <a:t>9</a:t>
            </a:fld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2:53:12Z</dcterms:created>
  <dc:creator>zuch</dc:creator>
  <dc:description/>
  <dc:language>en-US</dc:language>
  <cp:lastModifiedBy>ф</cp:lastModifiedBy>
  <dcterms:modified xsi:type="dcterms:W3CDTF">2004-12-08T10:16:04Z</dcterms:modified>
  <cp:revision>162</cp:revision>
  <dc:subject/>
  <dc:title>ООО «Инфо Софт»</dc:title>
</cp:coreProperties>
</file>